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1821-0737-4068-8DD0-3387C53EF7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3BE1B-55DC-4A50-9F86-43B944994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0A5D7-805A-4F31-B8C7-397851FDB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3D921-8B64-455E-99E3-3BFBA0A55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E294F-4808-463F-AED9-5808C31C4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A3F09-A9A7-41F5-B690-AF97C597AE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D63A7-A3C8-4CCF-A99F-ED4A9051F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AFB0A-A319-4EE4-B44D-9A5B1FE82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95612-A91C-4D43-BF75-64FA64268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96057-05E5-4386-8BD9-36975BB29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B0203-3550-4188-95EA-5EA95B9DF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53CA1-322A-48DB-959C-A607E184C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7EA5E-3D13-42AD-AA59-131935469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B2712-628D-4671-902F-D9F14C729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465B9-1D18-4B6B-84BA-233B384E5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C89F0-E098-46C7-B211-3FD21222A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6380B-99E9-443B-B0D5-BC07BB7C4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37B9A-24F4-4BE9-93B5-72EE76E65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1D4E1-2B57-4D93-B9C9-169CCD72F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B5178-EE59-47F3-A582-F2233C7D9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B814C-6D64-4000-BD20-B28A70AB1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5FC80-1991-4033-A95B-8C0F12A27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E905C-2062-4404-84F4-754DD3241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CFDA1-C4C4-4E0C-AEAC-938D06DB8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C1513-677A-42CC-A66C-93A6A7E83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17F4-7642-435D-9EAD-022842CD166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FC75-B855-4E06-9876-9C10944F833B}"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LEGION</cp:lastModifiedBy>
  <dcterms:modified xsi:type="dcterms:W3CDTF">2017-07-03T09:59:33Z</dcterms:modified>
  <cp:revision>8</cp:revision>
  <dc:subject/>
  <dc:title>What is civilization?</dc:title>
</cp:coreProperties>
</file>